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A83-E47C-4564-8BCA-58FC3B71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626-8277-4331-AB1E-94AB7340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EB5-1C4A-41F1-AB82-6101747E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B18-E55C-41F2-8035-1B7C8CEB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7E02-20FA-4E59-97DA-0AF1345A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26C0-83B4-477F-A08C-B59B5B88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3D43-AF6F-4F9E-BCB0-8226451B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EA87-2515-4393-8E10-092AEDEB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3205-2CFB-4A4F-BE63-E8A9EBE3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BF45-9CD4-44D7-9594-BC6EACF0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341A-B18F-4EB2-A98F-200A3B3A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6CB-4BBF-4D8F-88C1-D880D323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5540-79BE-4E55-8D5A-2189B758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A6B9-4046-4067-99F4-E647CE7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EBE0-14F8-47DD-8EDD-E1D2259E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4787-AE96-4617-AFF1-585B215C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FC33-882D-4CBA-96DB-EB1280D5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41AE-9027-4B3B-97BA-73945F51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FDA8-FE58-4DC3-B0B8-080DB812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ECEC-E79D-4A86-A6BB-F2A7E922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E621-FCB4-45E8-83C1-2A82D6D3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0B26-DB8C-4EF9-A111-076808B2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0B8-05ED-425E-A48F-6D35B846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B4F9E-6F6F-4C66-9561-1C1A3241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7B3F-D418-43AD-86A4-8E5CFC16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71963-4923-45F4-9B7D-8A190B97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1081-93E3-45B1-81A2-3FB52C4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245F-E539-4C0E-8813-48A41FB8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358F-A6D6-473A-99FC-C64776DF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B259-1865-4209-B702-4871E82D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BEE5-93BD-4ACF-B793-D7F89449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7B3DA-3DB8-4BB1-8ACE-A51E4E42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1922E-3B5E-4FD3-AB18-19DCF16B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F88-7CBF-485B-83BF-AA6C3E52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3815C-F2AB-426B-BA15-A7CDE6EA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94AB8-2EDA-4ECB-B058-F91AAFFB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A249-CFFA-4BD5-BA6F-B42ECF63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2322-F902-4284-9388-D0A59F4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AA11-7101-4D98-B71D-0169884F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5F58E-63F8-4656-8225-2106620E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7E87-B87B-4AFB-A08C-799676A6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1B503-8592-4FB3-A39D-2D3846B9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B61F5-8D64-4990-8662-A56D11E3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13BA8-5F7C-4353-A64E-D3DE11E1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11E-798F-4F63-BC81-386596FA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4178D-C780-4B15-AB33-03C1638A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F758-E245-4293-95F3-4AF6E430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F65F-B3B2-4309-9D7C-45A68D19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A653F-161A-4FB7-A66C-3AAB3170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5EE5-F0B2-49E2-9898-1DBCE84F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43030-3B53-41C4-89DA-94572867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AD17C-954A-4ECA-ABD5-69957C49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18A4-1747-4216-B1AF-C2057DE5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5AC55-0D6B-4448-8092-4D663764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32E79-9723-4111-B7E8-E6F2083D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F82-60B5-472D-9962-124D84BA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7223-7A60-4EC1-8C06-1DEE16E0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9A58-0F83-4A42-8901-A28C4394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A3E84-1737-43F9-A102-2AC99881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0FF61-9E45-4117-83B4-6EA5FCC3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6A0F-0043-470F-9B5B-24E3505F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0844A-5A61-4035-BF76-8745727B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CA7D-76F6-4AF8-9669-504AD8AE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33831-C96D-4F7A-AAF9-706ADF3D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E26A5-73CB-42C0-BE27-815D096C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28A1-0FC8-4811-9AFC-0B8E36D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F98-10B3-40E3-AE63-97D9B43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C5597-7AD0-4360-8962-2CC9CE9D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F1EE-5600-4B12-A916-1F3CB826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6223-2B54-43D9-8CF5-AAD0DA84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01C-9E36-422D-AB5E-FDD45FBA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851-C64C-42D9-8F6F-94EE784A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2880-0A46-4D0C-9F3B-E907D22460D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9C5-E1D3-486E-B9B0-C65EC7CECD0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65BB-9E35-4B11-91B9-C5AD01EC9D9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4A75-8C5F-4E6C-9D6A-54C27FF21BA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2A79-A08D-4D76-8917-FAE7C7835BC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A650-E99B-4834-8672-803228BB62A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mma Roadnight and Sydney Tut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Never give out your password or credit card information even to you administrators unless you are personally talking to them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ight Arrow 2"/>
          <p:cNvSpPr/>
          <p:nvPr/>
        </p:nvSpPr>
        <p:spPr>
          <a:xfrm>
            <a:off x="5943600" y="5334120"/>
            <a:ext cx="2590920" cy="11430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You have been chatting to this person online for a couple of months but you have never met them in person. They ask you to meet them at the local park. What do you do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7-Point Star 2"/>
          <p:cNvSpPr/>
          <p:nvPr/>
        </p:nvSpPr>
        <p:spPr>
          <a:xfrm>
            <a:off x="1143000" y="4038480"/>
            <a:ext cx="2514600" cy="221004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 them no and tell your par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7-Point Star 3"/>
          <p:cNvSpPr/>
          <p:nvPr/>
        </p:nvSpPr>
        <p:spPr>
          <a:xfrm>
            <a:off x="4419720" y="4114800"/>
            <a:ext cx="2514600" cy="220968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them, they are nice to you 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Never meet someone that you don’t personally know. It may not end the way they said it would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ight Arrow 2"/>
          <p:cNvSpPr/>
          <p:nvPr/>
        </p:nvSpPr>
        <p:spPr>
          <a:xfrm>
            <a:off x="6477120" y="5638680"/>
            <a:ext cx="2209680" cy="83844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Never meet someone that you don’t personally know. It may not end the way they said it would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ight Arrow 2"/>
          <p:cNvSpPr/>
          <p:nvPr/>
        </p:nvSpPr>
        <p:spPr>
          <a:xfrm>
            <a:off x="6095880" y="5562720"/>
            <a:ext cx="2667240" cy="11430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You are playing games on the Internet and the website asks you to register as a user or for a contest using your name, address, phone number, and email. What do you do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7-Point Star 2"/>
          <p:cNvSpPr/>
          <p:nvPr/>
        </p:nvSpPr>
        <p:spPr>
          <a:xfrm>
            <a:off x="685800" y="3809880"/>
            <a:ext cx="3048120" cy="28195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 them your information, it says there is a likely chance you would w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7-Point Star 3"/>
          <p:cNvSpPr/>
          <p:nvPr/>
        </p:nvSpPr>
        <p:spPr>
          <a:xfrm>
            <a:off x="4724280" y="3657600"/>
            <a:ext cx="3124440" cy="30481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gnore it and stay off the 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Don’t give out your personal information to unreliable sources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ight Arrow 2"/>
          <p:cNvSpPr/>
          <p:nvPr/>
        </p:nvSpPr>
        <p:spPr>
          <a:xfrm>
            <a:off x="5943600" y="5105520"/>
            <a:ext cx="2819520" cy="1371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Never give out your personal information to unreliable source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ight Arrow 2"/>
          <p:cNvSpPr/>
          <p:nvPr/>
        </p:nvSpPr>
        <p:spPr>
          <a:xfrm>
            <a:off x="5943600" y="5334120"/>
            <a:ext cx="2895480" cy="12952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Someone you met online asks you to send a picture of yourself. What should you do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7-Point Star 4"/>
          <p:cNvSpPr/>
          <p:nvPr/>
        </p:nvSpPr>
        <p:spPr>
          <a:xfrm>
            <a:off x="685800" y="3200400"/>
            <a:ext cx="4038480" cy="320040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 them a picture of your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7-Point Star 5"/>
          <p:cNvSpPr/>
          <p:nvPr/>
        </p:nvSpPr>
        <p:spPr>
          <a:xfrm>
            <a:off x="4876920" y="3200400"/>
            <a:ext cx="4038480" cy="320040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 them no and block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You don’t even know this person, don’t send them a picture of yourself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ight Arrow 2"/>
          <p:cNvSpPr/>
          <p:nvPr/>
        </p:nvSpPr>
        <p:spPr>
          <a:xfrm>
            <a:off x="6553080" y="5334120"/>
            <a:ext cx="2057400" cy="10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You don’t even know this person, don’t send them a picture of yourself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ight Arrow 2"/>
          <p:cNvSpPr/>
          <p:nvPr/>
        </p:nvSpPr>
        <p:spPr>
          <a:xfrm>
            <a:off x="7086600" y="55627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Someone who is the same age as you tries to be your friend on a social network site. Do you accept their friend request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7-Point Star 2">
            <a:hlinkClick r:id="rId1" action="ppaction://hlinksldjump"/>
          </p:cNvPr>
          <p:cNvSpPr/>
          <p:nvPr/>
        </p:nvSpPr>
        <p:spPr>
          <a:xfrm>
            <a:off x="990720" y="3809880"/>
            <a:ext cx="312408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7-Point Star 3">
            <a:hlinkClick r:id="rId2" action="ppaction://hlinksldjump"/>
          </p:cNvPr>
          <p:cNvSpPr/>
          <p:nvPr/>
        </p:nvSpPr>
        <p:spPr>
          <a:xfrm>
            <a:off x="4648320" y="3809880"/>
            <a:ext cx="312408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Your social networking site gives you the option to hide information on your account for strangers. Should you block your account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7-Point Star 2"/>
          <p:cNvSpPr/>
          <p:nvPr/>
        </p:nvSpPr>
        <p:spPr>
          <a:xfrm>
            <a:off x="1143000" y="3733920"/>
            <a:ext cx="2819520" cy="243828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block your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7-Point Star 3"/>
          <p:cNvSpPr/>
          <p:nvPr/>
        </p:nvSpPr>
        <p:spPr>
          <a:xfrm>
            <a:off x="4952880" y="3809880"/>
            <a:ext cx="2819520" cy="243864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ock your account so strangers can’t se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The right thing to do would be to just hide your information, because everyone can see what you put online, even personal information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ight Arrow 2"/>
          <p:cNvSpPr/>
          <p:nvPr/>
        </p:nvSpPr>
        <p:spPr>
          <a:xfrm>
            <a:off x="6477120" y="5410080"/>
            <a:ext cx="2438280" cy="12193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Block your account, if you don’t, everyone can see your account, even strangers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ight Arrow 2"/>
          <p:cNvSpPr/>
          <p:nvPr/>
        </p:nvSpPr>
        <p:spPr>
          <a:xfrm>
            <a:off x="6629400" y="5486400"/>
            <a:ext cx="2209680" cy="1143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ank you for taking this quiz. Remember to stay safe online.</a:t>
            </a:r>
            <a:r>
              <a:rPr b="0" lang="en-US" sz="41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This person could be lying about their age and you don’t actually know them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ight Arrow 3"/>
          <p:cNvSpPr/>
          <p:nvPr/>
        </p:nvSpPr>
        <p:spPr>
          <a:xfrm>
            <a:off x="6553080" y="5257800"/>
            <a:ext cx="2197080" cy="11700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You don’t know this person, they could be lying about their age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ight Arrow 2"/>
          <p:cNvSpPr/>
          <p:nvPr/>
        </p:nvSpPr>
        <p:spPr>
          <a:xfrm>
            <a:off x="6477120" y="5562720"/>
            <a:ext cx="2286000" cy="10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Someone you know from school emails you and calls you a bad name, later they email you and say, “just kidding”. Is this Cyberbullying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7-Point Star 2"/>
          <p:cNvSpPr/>
          <p:nvPr/>
        </p:nvSpPr>
        <p:spPr>
          <a:xfrm>
            <a:off x="1371600" y="4038480"/>
            <a:ext cx="281952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7-Point Star 3"/>
          <p:cNvSpPr/>
          <p:nvPr/>
        </p:nvSpPr>
        <p:spPr>
          <a:xfrm>
            <a:off x="4876920" y="4114800"/>
            <a:ext cx="281916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Even though this person said they were kidding, they could have still hurt your feelings. If they were just kidding they shouldn’t have said it in the first place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ight Arrow 2"/>
          <p:cNvSpPr/>
          <p:nvPr/>
        </p:nvSpPr>
        <p:spPr>
          <a:xfrm>
            <a:off x="6400800" y="5410080"/>
            <a:ext cx="2362320" cy="11430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If this person was really kidding, they shouldn’t have said it in the first place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ight Arrow 2"/>
          <p:cNvSpPr/>
          <p:nvPr/>
        </p:nvSpPr>
        <p:spPr>
          <a:xfrm>
            <a:off x="6477120" y="5562720"/>
            <a:ext cx="2286000" cy="9903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You get an email from the administrators of the network that needs your personal information, including your credit card information and email passwords. Do you reply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7-Point Star 2"/>
          <p:cNvSpPr/>
          <p:nvPr/>
        </p:nvSpPr>
        <p:spPr>
          <a:xfrm>
            <a:off x="914400" y="4114800"/>
            <a:ext cx="236232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7-Point Star 3"/>
          <p:cNvSpPr/>
          <p:nvPr/>
        </p:nvSpPr>
        <p:spPr>
          <a:xfrm>
            <a:off x="4343400" y="4114800"/>
            <a:ext cx="236232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Arrow 2"/>
          <p:cNvSpPr/>
          <p:nvPr/>
        </p:nvSpPr>
        <p:spPr>
          <a:xfrm>
            <a:off x="5867280" y="5486400"/>
            <a:ext cx="2667240" cy="10666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rect! You should never give out your password or credit card information to your administrators unless you are personally talking to th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4:01Z</dcterms:created>
  <dc:creator>HSD</dc:creator>
  <dc:description/>
  <dc:language>en-US</dc:language>
  <cp:lastModifiedBy>HSD</cp:lastModifiedBy>
  <dcterms:modified xsi:type="dcterms:W3CDTF">2010-05-19T17:46:55Z</dcterms:modified>
  <cp:revision>21</cp:revision>
  <dc:subject/>
  <dc:title>Slide 1</dc:title>
</cp:coreProperties>
</file>